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907-A25B-4BF4-AD7D-D955E2BD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234-7554-4221-9685-30452E25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9E6-6F6A-45C5-B6D0-67A1911F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E55-DED3-4758-8895-0C6072FB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EE17-F191-4C5B-84A5-3A2ECE57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A628-B0D2-4175-9317-4605F38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AB7A-42EB-472B-99E9-7D87F963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C1F2-4F21-41B8-BFF3-7909886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FD4D-E2D6-432A-9964-A2D964EA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6361-DD59-47C2-AFCA-C4F5033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526C-4487-4A38-9BB5-EB7F5D6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926-A5DD-4990-9793-3ABBAAF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AC3E-B95E-42FB-8D10-3713292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8B0-823F-472B-9722-92F7283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D186-871C-4294-9470-85A440A8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800E-E1E8-4376-BB32-5850F9FD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9C9F-8979-4696-8004-F417348D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AE6-0583-4440-ABA7-FEAF5B89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A80-E5E0-4C39-8B23-0A9BD3E7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1F3-9635-4F99-9ED2-53FD699D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1B3-3C34-455E-81E8-5578C638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335-AA0E-4DCA-A2C3-C65E2D0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4D2-2B2B-40D4-A593-1482F08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098-A3D2-46F2-9E4D-6FDD44C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65240" y="75960"/>
            <a:ext cx="8813520" cy="6629760"/>
            <a:chOff x="165240" y="75960"/>
            <a:chExt cx="8813520" cy="6629760"/>
          </a:xfrm>
        </p:grpSpPr>
        <p:sp>
          <p:nvSpPr>
            <p:cNvPr id="1" name="Rectangle 3"/>
            <p:cNvSpPr/>
            <p:nvPr/>
          </p:nvSpPr>
          <p:spPr>
            <a:xfrm>
              <a:off x="165240" y="241200"/>
              <a:ext cx="8813520" cy="59943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10800000">
              <a:off x="6399360" y="7596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2154240" y="6019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227005" dir="1593903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50C-4414-4B65-B31E-536CE9871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65240" y="1294920"/>
            <a:ext cx="8813520" cy="2502360"/>
            <a:chOff x="165240" y="1294920"/>
            <a:chExt cx="8813520" cy="2502360"/>
          </a:xfrm>
        </p:grpSpPr>
        <p:sp>
          <p:nvSpPr>
            <p:cNvPr id="46" name="Rectangle 3"/>
            <p:cNvSpPr/>
            <p:nvPr/>
          </p:nvSpPr>
          <p:spPr>
            <a:xfrm>
              <a:off x="165240" y="1460520"/>
              <a:ext cx="8813520" cy="23367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 flipH="1" rot="10800000">
              <a:off x="912960" y="1294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D8B-2113-4C8C-86AB-03736AF7DEF9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66"/>
                </a:solidFill>
                <a:latin typeface="Times New Roman"/>
              </a:rPr>
              <a:t>Present tense verb form review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present tense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ir a + inf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447920" y="1676520"/>
            <a:ext cx="2895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523880" y="1600200"/>
            <a:ext cx="2971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905120" y="22860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5181480" y="457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4724280" y="457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8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5257800" y="533520"/>
            <a:ext cx="31240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1371600" y="205740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38098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295280" y="2057400"/>
            <a:ext cx="35053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5334120" y="83808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8769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9810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1219320" y="1600200"/>
            <a:ext cx="30477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40384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066680" y="1981080"/>
            <a:ext cx="31244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1219320" y="1981080"/>
            <a:ext cx="31240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838080" y="1981080"/>
            <a:ext cx="3200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219320" y="1981080"/>
            <a:ext cx="3200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76212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1295280" y="2057400"/>
            <a:ext cx="3200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48769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685800" y="1600200"/>
            <a:ext cx="31240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39625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4952880" y="762120"/>
            <a:ext cx="31244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51055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1143000" y="198108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5334120" y="91440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4" name="AutoShape 2"/>
          <p:cNvSpPr/>
          <p:nvPr/>
        </p:nvSpPr>
        <p:spPr>
          <a:xfrm>
            <a:off x="1371600" y="1981080"/>
            <a:ext cx="2819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33920" y="762120"/>
            <a:ext cx="31240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380880"/>
            <a:ext cx="8534160" cy="571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44956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066680" y="1600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24:19Z</dcterms:created>
  <dc:creator>Paul Widergren</dc:creator>
  <dc:description/>
  <dc:language>en-US</dc:language>
  <cp:lastModifiedBy>Medina, Maria Mercedes</cp:lastModifiedBy>
  <dcterms:modified xsi:type="dcterms:W3CDTF">2010-09-28T18:01:45Z</dcterms:modified>
  <cp:revision>4</cp:revision>
  <dc:subject/>
  <dc:title>Present tense verb form review</dc:title>
</cp:coreProperties>
</file>